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63B-F5C1-44F9-8743-7D02E972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705-67C1-427E-8B9A-23302804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E8F-492E-4BC8-A8FC-F1370568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EF5-07BC-4100-93E4-C93C11B0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BA5-5E9B-48A3-A215-5852BC8F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56F-F471-4542-97FB-B13BA947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1AC-F69F-45D0-9FAD-F9490557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DFF-BE66-4EDA-BBC1-F36A658A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906-1096-480A-8328-0586F9F8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1FD-8848-4DE5-BC9C-84E6AA56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822-68B7-4C0E-B0DE-0C8A846E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15A-522D-4BDA-B2B1-BB753592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6FC9-35C1-49ED-AAB4-BA4B47D20F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1120" y="1752480"/>
            <a:ext cx="631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otterdam Stud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315200" cy="4953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5257800"/>
            <a:ext cx="7315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2581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467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467480" cy="4953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5181480"/>
            <a:ext cx="74674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33:39Z</dcterms:modified>
  <cp:revision>211</cp:revision>
  <dc:subject/>
  <dc:title>Slide 1</dc:title>
</cp:coreProperties>
</file>